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B280-65CE-4AE6-BB15-597296E65A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2D45-EB26-4D17-B7E4-971CF1692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0F9-AC27-4282-90C1-0EF54A49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80F3-2F53-4665-9FF8-09345415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958E-44D0-4FE0-B712-8FAF3B812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B081-D24C-4685-939C-17C7C3692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968A-D347-419D-B22C-E2B4C43B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9D3B-35C1-4860-93E9-C540178D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0E998-53E0-4C67-AB4A-A95405550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277A-E9CE-44A4-B3B4-526D2135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21BC-16C6-4C04-BD6A-31BBB992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E759-9025-4143-A57A-6458ABCC1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425-CFA0-4027-88E4-DD7E45DFB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3F4B2-8FDC-450C-B094-F7FF425E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219A-311C-4826-84B7-86E36C90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BD8D-70EC-46A8-9888-1325A807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4EAC-C47F-4AFC-8223-D96186ECE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19CA-8DEB-44FC-9193-AFA01064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AF0-9C16-4062-92AB-DA2176376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C11-CB24-410B-974C-BD33D0A58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E39-041E-47E4-ADA6-93006BEB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EC7C-67E4-4F04-83A0-AF9396C5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D14D-B231-45D8-BEF1-654E18AEA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C1CD-F21D-42DD-970F-39E43D70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37B-CE3D-4B0E-9513-82E87608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80960" y="6619680"/>
            <a:ext cx="289548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A13C-07EC-4918-A37B-C53C51044A90}" type="slidenum">
              <a:rPr b="0" lang="es-A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"/>
          <p:cNvSpPr/>
          <p:nvPr/>
        </p:nvSpPr>
        <p:spPr>
          <a:xfrm>
            <a:off x="411012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10920" y="6605280"/>
            <a:ext cx="446580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13520" y="638280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7C75-0195-4B4F-AB33-5253D890F2F2}" type="slidenum">
              <a:rPr b="0" lang="es-A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49400" y="169920"/>
            <a:ext cx="699840" cy="50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1012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0320" y="1920960"/>
            <a:ext cx="77709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l PORTAFOLIO</a:t>
            </a:r>
            <a:br>
              <a:rPr sz="4400"/>
            </a:b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Sólo N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1407240" y="3429000"/>
            <a:ext cx="652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aeaea"/>
                </a:solidFill>
                <a:latin typeface="Tahoma"/>
              </a:rPr>
              <a:t>Evaluación Interna – 20%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PRESENTA</a:t>
            </a:r>
            <a:r>
              <a:rPr b="0" lang="pt-BR" sz="4400" spc="-1" strike="noStrike">
                <a:solidFill>
                  <a:srgbClr val="eaeaea"/>
                </a:solidFill>
                <a:latin typeface="Tahoma"/>
              </a:rPr>
              <a:t>C</a:t>
            </a: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IÓN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Dividir los ensayos de acuerdo con los criterios. Éstos deben utilizarse como subtítulos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Incluir el título, fecha completa, área de impacto y cantidad de palabra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La cantidad de palabras no incluye la bibliografía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Incluir una portada con estos dato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Incluir una bibliografía formal. Las fuentes deben haber sido incluidas en el cuerpo del ensayo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Se deben citar todos los hechos, estadísticas, citas textuales, opiniones de otros, etc</a:t>
            </a:r>
            <a:r>
              <a:rPr b="1" lang="es-AR" sz="2000" spc="-1" strike="noStrike">
                <a:solidFill>
                  <a:srgbClr val="ffffcc"/>
                </a:solidFill>
                <a:latin typeface="Tahoma"/>
              </a:rPr>
              <a:t>. Evitar los párrafos largos entre comillas si no son luego analizados críticamente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8377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Cosas a considerar en los distintos criteri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0769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Criterio A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En este criterio se deben explicar los 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impactos sociales y/o éticos del tema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Cosas a considerar en los distintos criteri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7631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Criterio B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Este criterio trata los aspectos tecnológicos del tema y debe cubrir 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Conceptos: cómo trabaja la tecnología en estudio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Desarrollos: qué factores han posibilitado que esta tecnología aparezca.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Tendencias: estadísticas relacionadas al incremental uso de la tecnología analizada para ello se debe citar fuentes confiable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5638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ecff"/>
                </a:solidFill>
                <a:latin typeface="Arial"/>
              </a:rPr>
              <a:t>DISCUTA LA SITUACIÓN ACTUAL DE LA TECNOLOGÍA</a:t>
            </a:r>
            <a:r>
              <a:rPr b="0" lang="en-US" sz="1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eaeaea"/>
                </a:solidFill>
                <a:latin typeface="Arial"/>
              </a:rPr>
              <a:t>Muchos alumnos en el mejor de los casos, sólo describen la tecnología, pero es necesario discutirl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Cosas a considerar en los distintos criteri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7631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Criterio C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Se</a:t>
            </a: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  analizan los impactos sociales y/o éticos del tema tomando en cuenta a los distintos involucrado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3911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Cosas a considerar en los distintos criteri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3152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Criterio D: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0" i="1" lang="es-AR" sz="2800" spc="-1" strike="noStrike">
                <a:solidFill>
                  <a:srgbClr val="ffffcc"/>
                </a:solidFill>
                <a:latin typeface="Tahoma"/>
                <a:ea typeface="Times New Roman"/>
              </a:rPr>
              <a:t>	</a:t>
            </a:r>
            <a:r>
              <a:rPr b="1" lang="es-AR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Se debe plantear una solución al principal problema claramente enunciado en C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eaeaea"/>
                </a:solidFill>
                <a:latin typeface="Tahoma"/>
              </a:rPr>
              <a:t>CRITERIO E</a:t>
            </a:r>
            <a:br>
              <a:rPr sz="4400"/>
            </a:br>
            <a:r>
              <a:rPr b="0" lang="es-AR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Selección y Uso de Fuent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9144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Utilice un formato reconocido para la bibliografía y las notas al pie de página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buClr>
                <a:srgbClr val="ffffff"/>
              </a:buClr>
              <a:buSzPct val="11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2400" spc="-1" strike="noStrike">
                <a:solidFill>
                  <a:srgbClr val="eaeaea"/>
                </a:solidFill>
                <a:latin typeface="Tahoma"/>
                <a:ea typeface="Times New Roman"/>
              </a:rPr>
              <a:t>La noticia debe adjuntarse en el trabajo. De no hacerlo la nota del criterio es 0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8640" y="15192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RITERIO F</a:t>
            </a:r>
            <a:br>
              <a:rPr sz="4400"/>
            </a:b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Expresión de ideas pertinentes a la cuestión socia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8640" y="1599840"/>
            <a:ext cx="822672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800" spc="-1" strike="noStrike">
                <a:solidFill>
                  <a:srgbClr val="eaeaea"/>
                </a:solidFill>
                <a:latin typeface="Tahoma"/>
              </a:rPr>
              <a:t>Este criterio es corregido por el profesor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ffffff"/>
              </a:buClr>
              <a:buSzPct val="11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Expresa ideas con argumentos que las respaldan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ff"/>
              </a:buClr>
              <a:buSzPct val="11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Expresa ideas con argumentos que las respaldan y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ejemplos pertinente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130000"/>
              </a:lnSpc>
              <a:spcBef>
                <a:spcPts val="1800"/>
              </a:spcBef>
              <a:buClr>
                <a:srgbClr val="ffffff"/>
              </a:buClr>
              <a:buSzPct val="11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Expresa ideas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coherentemente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con argumentos que las respaldan y ejemplos pertinente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ff"/>
              </a:buClr>
              <a:buSzPct val="11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Expresa</a:t>
            </a:r>
            <a:r>
              <a:rPr b="0" i="1" lang="es-AR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ideas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cc"/>
                </a:solidFill>
                <a:latin typeface="Tahoma"/>
              </a:rPr>
              <a:t>coherentemente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con argumentos</a:t>
            </a:r>
            <a:r>
              <a:rPr b="0" lang="es-AR" sz="1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1800" spc="-1" strike="noStrike">
                <a:solidFill>
                  <a:srgbClr val="ffffcc"/>
                </a:solidFill>
                <a:latin typeface="Tahoma"/>
              </a:rPr>
              <a:t>que las respaldan y ejemplos </a:t>
            </a:r>
            <a:r>
              <a:rPr b="1" lang="es-AR" sz="2000" spc="-1" strike="noStrike">
                <a:solidFill>
                  <a:srgbClr val="ffffcc"/>
                </a:solidFill>
                <a:latin typeface="Tahoma"/>
              </a:rPr>
              <a:t>pertinentes y elaborado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eaeaea"/>
                </a:solidFill>
                <a:latin typeface="Tahoma"/>
              </a:rPr>
              <a:t>GUÍA</a:t>
            </a:r>
            <a:r>
              <a:rPr b="1" lang="pt-BR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pt-BR" sz="4400" spc="-1" strike="noStrike">
                <a:solidFill>
                  <a:srgbClr val="eaeaea"/>
                </a:solidFill>
                <a:latin typeface="Tahoma"/>
              </a:rPr>
              <a:t>PARA CALIFICAR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cc"/>
                </a:solidFill>
                <a:latin typeface="Tahoma"/>
              </a:rPr>
              <a:t>Los comentarios son esenciales para los alumnos y moderadore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Incluya una planilla con comentarios o escriba estos en el ensayo con lápiz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La nota final para cada criterio no es la media de los tres trabajos, sino que es la nota que mejor representa el logro alcanzado en ese criterio por el alumno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Aft>
                <a:spcPts val="751"/>
              </a:spcAft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La nota final en cada criterio debe haber sido lograda en, al menos uno, de los tres trabaj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66760" y="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PROBLEMAS DE EVALUACIÓN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2280" y="1676520"/>
            <a:ext cx="883944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eaeaea"/>
              </a:buClr>
              <a:buFont typeface="Tahoma"/>
              <a:buChar char="•"/>
              <a:tabLst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Si se envían menos de tres ensayos la nota final se ajusta proporcionalment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Ej. 2 ensayos = nota final * .0.6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Aft>
                <a:spcPts val="751"/>
              </a:spcAft>
              <a:buClr>
                <a:srgbClr val="eaeaea"/>
              </a:buClr>
              <a:buFont typeface="Tahoma"/>
              <a:buChar char="•"/>
              <a:tabLst>
                <a:tab algn="l" pos="3138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eaeaea"/>
                </a:solidFill>
                <a:latin typeface="Tahoma"/>
              </a:rPr>
              <a:t>Si el tema no está relacionado con TISG el ensayo no es considerado y se clasifica según el criterio anteri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8640" y="-3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REQUERIMIENTOS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8763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cc"/>
                </a:solidFill>
                <a:latin typeface="Tahoma"/>
              </a:rPr>
              <a:t>Tres trabajo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Cada uno de un área diferente de impact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Empresas y Empleos, Educación, Salud, Política y Gobierno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Arte/Entretenimiento/Ocio, Ciencia y Medioambiente.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800-1000 palabras en total (no incluye. bibliografía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Basado en una noticia escrita en el idioma de trabajo o traducida con certificación de su traducción. (antigüedad no mayor de 6 meses de comenzado el curso)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El trabajo </a:t>
            </a:r>
            <a:r>
              <a:rPr b="0" lang="es-AR" sz="2800" spc="-1" strike="noStrike">
                <a:solidFill>
                  <a:srgbClr val="ffffcc"/>
                </a:solidFill>
                <a:latin typeface="Tahoma"/>
              </a:rPr>
              <a:t>se debe enfocar en el contexto</a:t>
            </a: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 de la noticia seleccionada 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cc"/>
                </a:solidFill>
                <a:latin typeface="Tahoma"/>
              </a:rPr>
              <a:t>No </a:t>
            </a:r>
            <a:r>
              <a:rPr b="1" lang="es-AR" sz="2200" spc="-1" strike="noStrike">
                <a:solidFill>
                  <a:srgbClr val="ffffcc"/>
                </a:solidFill>
                <a:latin typeface="Tahoma"/>
              </a:rPr>
              <a:t>está permitido ningún tipo de colaboración.</a:t>
            </a: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L TRIÁNGUL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23880"/>
            <a:ext cx="2971800" cy="1616040"/>
          </a:xfrm>
          <a:prstGeom prst="rect">
            <a:avLst/>
          </a:prstGeom>
          <a:noFill/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Tahoma"/>
                <a:ea typeface="Times New Roman"/>
              </a:rPr>
              <a:t>TEMAS SOCIALES Y É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Se utilizan para analizar el impacto social y las consideraciones éticas de TI. (Sección 1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600200"/>
            <a:ext cx="3200400" cy="16470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Tahoma"/>
                <a:ea typeface="Times New Roman"/>
              </a:rPr>
              <a:t>SISTEMAS DE TI EN UN CONTEXTO SOCIAL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Tahoma"/>
                <a:ea typeface="Times New Roman"/>
              </a:rPr>
              <a:t>Temas relacionados con el uso de  software, hardware y los sistemas de información relacionados </a:t>
            </a:r>
            <a:r>
              <a:rPr b="1" lang="es-AR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(Sección 2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1800" y="4267080"/>
            <a:ext cx="3200400" cy="1585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ecff"/>
                </a:solidFill>
                <a:latin typeface="Tahoma"/>
                <a:ea typeface="Times New Roman"/>
              </a:rPr>
              <a:t>ÁREAS DE IMPAC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eaeaea"/>
                </a:solidFill>
                <a:latin typeface="Tahoma"/>
                <a:ea typeface="Times New Roman"/>
              </a:rPr>
              <a:t>Principales áreas de impacto de las cuales se pueden elegir los temas (Sección 3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cc"/>
                </a:solidFill>
                <a:latin typeface="Tahoma"/>
              </a:rPr>
              <a:t>Seleccione el tópico desde acá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19440" y="2286000"/>
            <a:ext cx="1905120" cy="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276720"/>
            <a:ext cx="1600200" cy="92232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171840" y="3352680"/>
            <a:ext cx="1523880" cy="879480"/>
          </a:xfrm>
          <a:prstGeom prst="line">
            <a:avLst/>
          </a:prstGeom>
          <a:ln w="5724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9160" y="99072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imes New Roman"/>
              </a:rPr>
              <a:t>Criterio A y 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10666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imes New Roman"/>
              </a:rPr>
              <a:t>Criterio B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8640" y="30456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COMIENZO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219320" y="1447920"/>
            <a:ext cx="6443640" cy="449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¿QUÉ ES UNA NOTICIA?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7820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Artículos de periódico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Artículos de revista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Artículos de Interne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362320" y="3200400"/>
            <a:ext cx="3124080" cy="2209680"/>
            <a:chOff x="2362320" y="3200400"/>
            <a:chExt cx="3124080" cy="2209680"/>
          </a:xfrm>
        </p:grpSpPr>
        <p:sp>
          <p:nvSpPr>
            <p:cNvPr id="110" name=""/>
            <p:cNvSpPr/>
            <p:nvPr/>
          </p:nvSpPr>
          <p:spPr>
            <a:xfrm>
              <a:off x="2362320" y="3200400"/>
              <a:ext cx="3124080" cy="2209680"/>
            </a:xfrm>
            <a:prstGeom prst="irregularSeal1">
              <a:avLst/>
            </a:prstGeom>
            <a:noFill/>
            <a:ln w="38160">
              <a:solidFill>
                <a:srgbClr val="65b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76360" y="4030560"/>
              <a:ext cx="137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eaeaea"/>
                  </a:solidFill>
                  <a:latin typeface="Tahoma"/>
                </a:rPr>
                <a:t>Discutir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86400" y="2743200"/>
            <a:ext cx="3124080" cy="38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apropiad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auténtic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exact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confiabl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eaeaea"/>
                </a:solidFill>
                <a:latin typeface="Tahoma"/>
              </a:rPr>
              <a:t>¿Es actual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¿LA NOTICIA ES APROPIADA?</a:t>
            </a:r>
            <a:r>
              <a:rPr b="1" lang="en-US" sz="4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I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…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cc"/>
                </a:solidFill>
                <a:latin typeface="Tahoma"/>
              </a:rPr>
              <a:t>Cuando se trata de uno o más temas sociales o éticos relacionados con un sistema de la TI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219320"/>
            <a:ext cx="8381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Tecnología de la Información incluye   la adquisición, el procesamiento, almacenaje, manipulación y diseminación de la información digital por computadora o telecomunicaciones o una combinación de amb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457200" y="0"/>
            <a:ext cx="10058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AR" sz="4400" spc="-1" strike="noStrike">
                <a:solidFill>
                  <a:srgbClr val="eaeaea"/>
                </a:solidFill>
                <a:latin typeface="Tahoma"/>
              </a:rPr>
              <a:t>¿Qué significa TI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22824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¿CÓMO ELEGIR UNA NOTICIA?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El Tema: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Debe estar relacionado con TI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Debe interesar al estudiant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No debe ser demasiado amplio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Debe tratarse de un problema que tenga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0" lang="es-AR" sz="2400" spc="-1" strike="noStrike">
                <a:solidFill>
                  <a:srgbClr val="ffffcc"/>
                </a:solidFill>
                <a:latin typeface="Tahoma"/>
              </a:rPr>
              <a:t>solución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456e"/>
            </a:gs>
            <a:gs pos="50000">
              <a:srgbClr val="5571b1"/>
            </a:gs>
            <a:gs pos="100000">
              <a:srgbClr val="32456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944240" y="175248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¡Ofrezcamos ayuda</a:t>
            </a: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33520"/>
            <a:ext cx="44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aeaea"/>
                </a:solidFill>
                <a:latin typeface="Tahoma"/>
              </a:rPr>
              <a:t>¡Evitemos desastre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42880" y="1452600"/>
            <a:ext cx="4029120" cy="3951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14880" y="2590920"/>
            <a:ext cx="4029120" cy="4047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trella Córdoba Bogantes, 200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4T10:00:33Z</dcterms:created>
  <dc:creator>St Peter's College</dc:creator>
  <dc:description/>
  <dc:language>en-US</dc:language>
  <cp:lastModifiedBy>Estrella Córdoba Bogantes </cp:lastModifiedBy>
  <dcterms:modified xsi:type="dcterms:W3CDTF">2009-03-24T20:45:36Z</dcterms:modified>
  <cp:revision>143</cp:revision>
  <dc:subject/>
  <dc:title>PowerPoint Presentation</dc:title>
</cp:coreProperties>
</file>